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3EC-BDC5-4F3E-9A6A-22A5B10E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A08-015B-45F1-BB84-601E033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351-3EBA-4C4F-84A8-AEC7C3D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660-95C7-42E5-8100-238319DE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7DC-4055-4376-9934-952C784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3B7-216E-43B7-88B6-F1C390B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1AA-55A4-4320-B433-E2CB72C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4F9-4E0E-4632-B83B-91B9B1C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152-DEEE-4E6A-B26C-9682967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223-1C62-4099-9CD3-C9FEA73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99B-6CD6-4AC1-A756-508AC3A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C84-A0DE-46B7-9FFC-6058019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B17C-4B42-4BC8-9E61-840AD89A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9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deportes son populares en los Estados Un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lete with the correct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español __________ a las doce y cuarenta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________ a las ocho. 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 ir a la fiesta? 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 ___________ mirar el partido. (PREFER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s. ___________ a casa a las cuatro. 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 __________ a trabajar. (EMPE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1200" y="1752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76840" y="129528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49220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244880" cy="146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010280" y="304920"/>
            <a:ext cx="17496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096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bé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bé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4680" y="3352680"/>
            <a:ext cx="2076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í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lanz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1240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jar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4680" y="6019920"/>
            <a:ext cx="21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4800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623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562360" y="57150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2400" y="45720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á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3600" y="5638680"/>
            <a:ext cx="176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880" y="5410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4320" y="5486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g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905120" y="6058080"/>
            <a:ext cx="914400" cy="72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9560" y="6110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53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2320" y="2362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cor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0492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atra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576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lan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47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ba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3680" y="3809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Jonr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22400" y="55627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 basquetbol / E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cha de basque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53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5791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ro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33560" y="426672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ampe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uartos /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2736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667160" cy="27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124080" y="7621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Drib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Pas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Ences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09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Ti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1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7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3:58Z</dcterms:created>
  <dc:creator>Helen Zumaeta</dc:creator>
  <dc:description/>
  <dc:language>en-US</dc:language>
  <cp:lastModifiedBy>Helen Zumaeta</cp:lastModifiedBy>
  <dcterms:modified xsi:type="dcterms:W3CDTF">2012-10-03T22:04:35Z</dcterms:modified>
  <cp:revision>6</cp:revision>
  <dc:subject/>
  <dc:title>Me llamo __________ Clase 6nh/il La fecha es el 5 de mayo del 2011</dc:title>
</cp:coreProperties>
</file>